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F9F-D755-4DD0-8424-0D094C1E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7BF-0401-4FB9-8844-69067170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274-322D-4882-90C8-92417D3C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8B2-BB29-4283-848D-F3D35B28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585-F90F-4DC8-9BF0-130785D8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989-9697-475A-9A55-A5DC4AC3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8D1-1660-47FE-B9EB-ED5C033E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6BB-CA76-43BE-B7E6-74AF682D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0EB-811D-4E3B-AEF7-DBFCDA8D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EF0-5EE1-4804-8533-E074DB75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DBC-FA43-4D80-A57A-044BBB44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36E-887E-4B93-A581-C23CABA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6560-17E5-4D00-B87A-EB3B832B3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kispace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6" descr="KS110132.jpg"/>
          <p:cNvPicPr/>
          <p:nvPr/>
        </p:nvPicPr>
        <p:blipFill>
          <a:blip r:embed="rId1"/>
          <a:stretch/>
        </p:blipFill>
        <p:spPr>
          <a:xfrm>
            <a:off x="457200" y="533520"/>
            <a:ext cx="8291520" cy="5513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5486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6" descr="KS110132.jpg"/>
          <p:cNvPicPr/>
          <p:nvPr/>
        </p:nvPicPr>
        <p:blipFill>
          <a:blip r:embed="rId1"/>
          <a:stretch/>
        </p:blipFill>
        <p:spPr>
          <a:xfrm>
            <a:off x="480960" y="1143000"/>
            <a:ext cx="8205840" cy="5334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609480" y="1295280"/>
            <a:ext cx="5334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rs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student will set-up a wikispace accou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 to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wikispace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low the instructions under “Get Started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are selected to be the wiki manager for the 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 to your dashbo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“Create a New wik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name that is group or course rela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ite ONLY your group members and instructors.  No one else should be able to view or comment.  (It would spoil the surprise on final day of clas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Placeholder 6" descr="KS110132.jpg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609480" y="1295280"/>
            <a:ext cx="533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Project Developme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 to group wikisp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Edit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names of group members and topi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New Pag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:  Science Model Les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opic and standards, general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New Pag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:  Math Model Les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opic and standards, general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New Pag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:  Collaborative PD-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Your top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opic and standards, general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6" descr="KS110132.jpg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09480" y="1295280"/>
            <a:ext cx="5334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group wiki for project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 group w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the page you want to work 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“Edi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your contrib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“Save” when finis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E:  Instructors will be notified when you make additions or chang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Work:  EESL 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6" descr="KS110132.jpg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609480" y="1295280"/>
            <a:ext cx="5334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essing wik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1.  Instructors will periodically visit the wi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 as an interactive and collaborative tool will be assess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llowing use of wiki via “history” tab, “discussion” ta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ng scope of use of wiki (over time, use by group members, number of visits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hunt</cp:lastModifiedBy>
  <dcterms:modified xsi:type="dcterms:W3CDTF">2010-06-23T05:13:19Z</dcterms:modified>
  <cp:revision>2</cp:revision>
  <dc:subject/>
  <dc:title>Presenting the new technology   [Technology Name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59990</vt:lpwstr>
  </property>
</Properties>
</file>